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2CDB-B05F-46ED-9A25-67D0742E7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15F6-127F-42ED-A27C-6B333F7B05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DFC-3F98-40A1-B9F0-FBBB721FD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C54-5CE8-4A3E-A2FC-CE7739539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2B92-6892-4312-B490-D7C136D26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8864-4F36-4A22-A839-9A6870C4E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3DE-6927-4EDF-A4B3-5944E6AC9D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9A3-04AC-47FD-906E-955654352C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A135-5E69-4D5A-93CC-F035A31AC1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68CE-C9BD-4CF9-B47C-246FB53C4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108-9B6A-48DA-AD3D-AEFD2E66F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D97B-1379-4E35-A28A-2EA941A48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E444-4607-4AEA-8AF6-D47A4A9CF0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5C6-27F5-48C6-B710-8E5C8BC07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7CF-1389-4018-B933-30D2FB0649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29CF-688F-468C-B6FC-7F55E88BD1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048-744C-4167-A57E-4EE1F3C2AE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EB49-D03D-4F35-959F-ACEADE64B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EFD-91A9-4FEF-8806-C66C9AD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0B6-2984-43E9-BD0B-2932E5E2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6CE-840A-4021-A892-B63AADCC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378-921C-4169-AA01-962B447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4F595-AD08-483B-AFBE-CF32165B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3B24B-1DEC-4295-BFB9-7614B7C2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2A041-62A1-486F-99A8-7B443BA7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F0EF-1EBC-42A5-BA75-DC0CC4D1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A3C3E-2C13-48DD-9FCC-3D065CB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203A-7F5F-41C1-BA3B-51A785F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4E822-86FD-4905-99FD-A76D99E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03E-0D0D-4745-ABE6-9255F84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BBCC1-3678-4F0E-BDE1-110AD21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3CF8-9EF6-4818-B9A8-6E07F4F5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385EA-CC4A-4665-B2CF-93E838F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34DE4-8CDB-403C-9DAA-33A1D020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3A459-CFCA-4604-9E54-11C128D3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691E-C682-425C-934D-F44D57FF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F95-EA8F-4628-832B-C26FDF5C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CDD-8CC9-46C3-9C07-BBFAC46B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7C5-EBD6-4D82-8B93-342AB7C7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206-5D83-4EBB-B98B-584393A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B83-664D-49A2-BCB4-181B97E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840-E408-46D4-A599-8129E663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C69-8810-4734-9330-C36C76E90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F35-6C4B-4EAC-AAD7-C897C841E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199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cccc"/>
                </a:solidFill>
                <a:latin typeface="Papyrus"/>
              </a:rPr>
              <a:t>Rules of Integer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multiply negative with a negative you get a po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-3) x (-2) =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btrac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gative – Positive =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ample: (-5) – 3 = -5 + (-3) = 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ill Sans Ultra Bold Condensed"/>
              </a:rPr>
              <a:t>Positive - Negative = Positive + = Positiv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2133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bcPhonicsOne"/>
              </a:rPr>
              <a:t>Example:</a:t>
            </a:r>
            <a:r>
              <a:rPr b="1" lang="en-US" sz="3200" spc="-1" strike="noStrike">
                <a:solidFill>
                  <a:srgbClr val="ffffff"/>
                </a:solidFill>
                <a:latin typeface="Ravie"/>
              </a:rPr>
              <a:t> 5 m- (-3) = 5 + 3 =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Tahoma"/>
              </a:rPr>
              <a:t>Negative – Negative = Negative+ Positive =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904760"/>
            <a:ext cx="861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egative – Negative = Negative+ Positive =</a:t>
            </a:r>
            <a:r>
              <a:rPr b="1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Tahoma"/>
              </a:rPr>
              <a:t>use the sign of the larger number and subtract (change double negatives to a positiv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66"/>
                </a:solidFill>
                <a:latin typeface="Gill Sans Ultra Bold Condensed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Ravie"/>
              </a:rPr>
              <a:t>(-5) – (-3) = (-5) + 3 =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Ravie"/>
              </a:rPr>
              <a:t>(-3) – (-5) = (-3) + 5 = 2</a:t>
            </a:r>
            <a:r>
              <a:rPr b="0" lang="en-US" sz="3600" spc="-1" strike="noStrike">
                <a:solidFill>
                  <a:srgbClr val="0000ff"/>
                </a:solidFill>
                <a:latin typeface="Ravi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Cooper Black"/>
              </a:rPr>
              <a:t>Dividing Positives</a:t>
            </a:r>
            <a:r>
              <a:rPr b="0" lang="en-US" sz="4400" spc="-1" strike="noStrike">
                <a:solidFill>
                  <a:srgbClr val="ffffff"/>
                </a:solidFill>
                <a:latin typeface="Cooper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66"/>
                </a:solidFill>
                <a:uFillTx/>
                <a:latin typeface="Cooper Black"/>
              </a:rPr>
              <a:t>Positive </a:t>
            </a:r>
            <a:r>
              <a:rPr b="0" lang="en-US" sz="4100" spc="-1" strike="noStrike" u="sng">
                <a:solidFill>
                  <a:srgbClr val="cc0066"/>
                </a:solidFill>
                <a:uFillTx/>
                <a:latin typeface="Cooper Black"/>
                <a:ea typeface="Arial"/>
              </a:rPr>
              <a:t>÷ Positive = Positive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Example: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	</a:t>
            </a:r>
            <a:r>
              <a:rPr b="0" lang="en-US" sz="4100" spc="-1" strike="noStrike">
                <a:solidFill>
                  <a:srgbClr val="cc0066"/>
                </a:solidFill>
                <a:latin typeface="Cooper Black"/>
                <a:ea typeface="Arial"/>
              </a:rPr>
              <a:t>12 ÷ 3 = 4</a:t>
            </a:r>
            <a:r>
              <a:rPr b="0" lang="en-US" sz="4100" spc="-1" strike="noStrike">
                <a:solidFill>
                  <a:srgbClr val="ffffff"/>
                </a:solidFill>
                <a:latin typeface="Cooper Black"/>
                <a:ea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Rockwell Extra Bold"/>
              </a:rPr>
              <a:t>Dividing Negativ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04920" y="2742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Rockwell Extra Bold"/>
              </a:rPr>
              <a:t>Negative </a:t>
            </a: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÷ Negative = Positive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 </a:t>
            </a:r>
            <a:r>
              <a:rPr b="0" lang="en-US" sz="3300" spc="-1" strike="noStrike">
                <a:solidFill>
                  <a:srgbClr val="66ccff"/>
                </a:solidFill>
                <a:latin typeface="Rockwell Extra Bold"/>
                <a:ea typeface="Arial"/>
              </a:rPr>
              <a:t>(-12) ÷ (-3) = 4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Snap ITC"/>
              </a:rPr>
              <a:t>Dividing Negative with a Positiv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Snap ITC"/>
              </a:rPr>
              <a:t>Negative </a:t>
            </a:r>
            <a:r>
              <a:rPr b="0" lang="en-US" sz="3600" spc="-1" strike="noStrike">
                <a:solidFill>
                  <a:srgbClr val="00ff00"/>
                </a:solidFill>
                <a:latin typeface="Snap ITC"/>
                <a:ea typeface="Arial"/>
              </a:rPr>
              <a:t>÷ Positive = Negativ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Snap ITC"/>
                <a:ea typeface="Arial"/>
              </a:rPr>
              <a:t>Example: (-12) ÷ 3 = -4 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Showcard Gothic"/>
              </a:rPr>
              <a:t>Dividing a Positive with a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 </a:t>
            </a:r>
            <a:r>
              <a:rPr b="0" lang="en-US" sz="3200" spc="-1" strike="noStrike">
                <a:solidFill>
                  <a:srgbClr val="ccccff"/>
                </a:solidFill>
                <a:latin typeface="Showcard Gothic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</a:rPr>
              <a:t>Positive </a:t>
            </a: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÷ Negative = Neg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5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Example:</a:t>
            </a:r>
            <a:r>
              <a:rPr b="0" lang="en-US" sz="3200" spc="-1" strike="noStrike">
                <a:solidFill>
                  <a:srgbClr val="ccccff"/>
                </a:solidFill>
                <a:latin typeface="Gill Sans Ultra Bold Condense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ill Sans Ultra Bold Condensed"/>
                <a:ea typeface="Arial"/>
              </a:rPr>
              <a:t>12 ÷ (-3) = -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228240"/>
            <a:ext cx="8458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ve numbers are numbers that are above z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 numbers are numbers below ze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Alexandra12_Full"/>
          <p:cNvPicPr/>
          <p:nvPr/>
        </p:nvPicPr>
        <p:blipFill>
          <a:blip r:embed="rId1"/>
          <a:stretch/>
        </p:blipFill>
        <p:spPr>
          <a:xfrm>
            <a:off x="1828800" y="121932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39116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Papyrus"/>
              </a:rPr>
              <a:t>Adding Rul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456840"/>
            <a:ext cx="91440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bcPhonicsOne"/>
              </a:rPr>
              <a:t>Positive + Positive = Positive</a:t>
            </a: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lephan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Exampl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bcPhonicsOne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ill Sans Ultra Bold Condensed"/>
              </a:rPr>
              <a:t>5 + 4 = 9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Ultra Bold Condensed"/>
              </a:rPr>
              <a:t>Negative  + Negative = Neg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(-7) + (-2) = -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 of a negative and a positive number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sign of the larger number and subtra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7) + 4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+ (-9)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-3) + 7 = 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+ (-3) =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ill Sans Ultra Bold Condensed"/>
              </a:rPr>
              <a:t>Multiplying rules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1935703-main_Full"/>
          <p:cNvPicPr/>
          <p:nvPr/>
        </p:nvPicPr>
        <p:blipFill>
          <a:blip r:embed="rId1"/>
          <a:stretch/>
        </p:blipFill>
        <p:spPr>
          <a:xfrm>
            <a:off x="5943600" y="3581280"/>
            <a:ext cx="26431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0199"/>
                </a:solidFill>
                <a:latin typeface="Comic Sans MS"/>
              </a:rPr>
              <a:t>When you multipl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1" lang="en-US" sz="96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 multiplied by a positive gets you a 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 x 2 =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+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you multiply positive with negative you get a negativ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-3) x 2 = 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7:36:27Z</dcterms:created>
  <dc:creator>s-PABARZEGARI</dc:creator>
  <dc:description/>
  <dc:language>en-US</dc:language>
  <cp:lastModifiedBy>Home</cp:lastModifiedBy>
  <dcterms:modified xsi:type="dcterms:W3CDTF">2010-11-14T17:38:54Z</dcterms:modified>
  <cp:revision>7</cp:revision>
  <dc:subject/>
  <dc:title>Rules of integers</dc:title>
</cp:coreProperties>
</file>